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284-E7EF-4630-B1D6-95C1FED2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CD6-6186-4E1A-A3D8-43C3650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36DF-444B-4A7E-B038-23781EA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FCA80-3D6D-4CB9-BD42-7B9B4857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113AC-EF84-4B06-808F-26F6787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0CF1C-F38E-4C57-8262-0A793E2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24C37-AD31-4A03-BB81-13EC788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285B-2023-4EE8-8522-C38BFF7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264D-5721-4A01-B531-3D3C68A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776F7-C19D-4C88-9999-4AE58169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4B527-8FD8-404E-AEBA-38A88962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D6926-BC53-4F5D-B659-CD8BAA92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EE7-A082-4542-802D-6A5F26F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5EBD-609F-4BD1-B0DA-AEFC7BC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2AFDD-56BC-4EA0-8D6C-0AEB59E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B230-A112-43A2-A33C-D4EE883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740BA-A947-444B-BE13-7BF068F7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9920-7B9E-4E41-A3CF-08AA627B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31B95-F57C-46BE-9C95-0B04379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BE32C-11DC-42AC-955A-CC9C5FE0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2C7EA-031E-4F20-9041-E97C295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573D2-2F16-473C-92F5-353DD6C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387C4-E273-4EAA-8CE8-219DF40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AD7-1231-48CC-A125-3C06E517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9F3C0-66E8-4537-9A93-97E0CA02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1042C-11E3-453A-92C3-06B01EA2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86B5-0956-42B6-AE6E-7F5A2235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90355-6686-4D98-9788-1BA488E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7B0F3-5E18-43EC-AC5F-822078C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1141A-FA5E-4338-AC08-3296AD5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B805-A4F7-4702-AE10-A0729F0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759F9-BE2E-421C-81B2-66E8075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DD38-6211-4D66-9FC0-9DFCA99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6E046-7CFD-48F8-BBB5-C304E1B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1F8-4A64-4FAE-8BA6-8B1E4940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E8395-EEB8-4E65-99D3-0A51175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25ADA-19B7-4BF9-A9F7-411FF673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EC98E-E786-48A6-8952-9961E5A6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437C0-51B7-478E-B8F0-DBA8DB64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A25F3-0C32-4ECF-8FD9-EB38F8B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193FD-8A13-4667-A406-B56168B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05239-10B5-4DA1-A9BF-C01F0963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07E4B-01FE-43C5-8A89-3311260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7FD02-ABE8-4E2E-A93B-2271AB63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5CF4C-B083-4F7D-AB11-6DC67E8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ADDD-E1AF-4D61-8382-537B81B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F5F67-0D5C-4F56-AECF-F955D73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894ED-36F5-4593-827C-DD3715A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E6465-CC36-4998-9E76-021F682A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B46D-2D46-413B-A4A0-52EB5EE1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8199B-8BA5-47B1-9A88-3DA9D9C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3EB19-E16D-4D96-9E91-D35D944C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E7B67-E57F-4F6D-ABEB-BA84213B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C189C-BF24-45C1-AB75-C539AB2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6848C-94EA-4456-A986-29500699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D4F43-2224-4443-81E8-03775048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5116-C99E-4F5B-8235-9E9C992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FE22D-85C6-4C72-8F1B-C51065C1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45346-6D5F-41AC-895C-388ED33E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371BB-7393-4EC3-9956-68BF5E07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1467D-0577-42F9-A73A-D6BFE23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B3E84-DB23-48DE-920B-9CF6ED9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B01D3-DB8A-4600-8D4E-D4370434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4E486-2BC5-4657-8829-859E0BDD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6E9BB-6B97-4FEC-AE7B-BB105CE4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4C0E1-FAC1-427E-AF4A-F7A06107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5741E-8154-48B9-A3D1-C61942B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2C8-5850-4D15-8F68-BF19CC7A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3297F-DCA2-4EAC-A440-5232D53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35FAB4-8B47-4F27-B8F9-1317129E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011DA-183A-430A-87FB-B20E990F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8FE2D-B922-4B07-B6F8-B723A85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2EBF7-C538-40F8-B38F-7A77DEA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F9487-200C-480A-9916-2115AE4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5D5B7-F86E-47CF-85DE-C7F6140E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E8B8E-EE19-477A-98EF-EB61DA97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5DCB3-A9FE-47DC-9C4A-0B4043B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7C334-7427-4F38-82CA-8BEAB3F5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331-32FA-47AD-B6FE-CFE1195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2D4A6-E975-4C15-B4BB-0BE7832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B3D9C-A61A-417F-99B6-73C14C23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78C53-F3EE-40F4-B5AF-EE63173D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AAF77-2340-4CD8-92B4-2162C33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5203D-7992-429C-A308-D1AD336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D50C4-6351-4957-8F9D-7E7D818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DB1B3-BE7F-4986-9908-4383F06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2DB5C-4412-4854-9E70-00DA1EBA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93815-75DD-4CD0-8ACA-2040B94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6A804-BDFF-44A0-9666-9B60AFAB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6D26-8252-47F4-B9A9-1FFF7182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C7C92-E08B-4F78-9F8D-7BABADD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3CE59-6C67-456A-A282-874FF1BF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A7FC5-A60C-4E91-9472-B04AF6F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C3D69-99CC-4663-A50D-B3AE3613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78163-C746-46E8-89B0-54FBF92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5D3E3-FED4-4C95-BD1E-B5E2CD4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CF192-1DD1-4D0B-94D6-66650486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7A8AE-22E0-4F5D-BA02-5B5F9BD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4CF39-D376-4F85-A808-E5EA943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B045D-E957-437B-A94D-4575332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C690-9E95-40A7-BD9C-E91B61A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CD3D5-6136-45D1-AE19-926B2383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174AB-C0B1-4592-BBD0-CBD0A4AB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31200-A272-45C0-8555-63DC70DE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9AF55-70BF-4FF4-909C-15ACE9E8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54D1C-C90E-4E2C-B017-A529CC9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E752E-CEAE-4280-AA49-A14CAE4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5489F-522D-4453-83BD-36081CC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8D25F-6BB7-4C07-9315-38330408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FB5BE-FFAE-4E32-8CCE-46173D1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C1098-B6CC-4278-BBC9-D44EA0E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7EA-EF5B-40BA-A4B3-D0F1EE3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71F-E9A3-4390-9770-CA4F74BF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D6E84-E2C1-454C-ADA9-61B7C9CD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DE4F8-EA85-48D7-8184-BAA7011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33A37-8BA1-4E97-986D-C76375E4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A7887-3319-49F1-AACC-B302A0F3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4E66A-8737-444F-A264-6102CFA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679C2-3220-409C-B030-C1D6803F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9104F-7D3D-44B1-9C6B-FF5275FD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FF98B-5782-48E7-BF9B-8F0C49CA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85479-AAF7-4E40-97F4-96C9162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1EA0D-5492-44D1-BDEE-5A1DA88A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21BD-FB50-490C-B549-EE4DC89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6C98D-3BB4-46F7-B4D7-A8BC5D6C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6B820-63CA-4ADB-A086-B315479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9D7A8-E26D-48CF-B11C-49641D69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79C58-D9BF-4FDF-A299-BFD0ED8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68379-0DE5-4FAC-8828-751CBC0E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E6165-D238-41B3-A8A2-B064C06B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6553E-7F01-493E-A771-3A0E72A2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82A7E-E6D6-4463-861E-ACB3D6A1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113AB-A24D-4188-82B5-1DD6279A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6C19A-36AB-469F-9D84-7B729B1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CBD6-1F70-418D-8872-93BBA65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F75E9-0B0A-4186-A01A-AD6295A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3C81A-57C1-4211-BB1A-7A50F67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C9979-750B-4C61-8F17-D7F25A9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D219D-92E6-4329-80FE-ABA2727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D3C4A-D2C7-498E-86D1-B611840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12773-949D-41C4-8EE8-BADF82CB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35452-2197-49CD-A20B-F6B8901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7B525-BEE0-4A26-BE69-82B4041A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EBF60-1FDC-4C70-B3BE-E85993A1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5BECD-6E92-4744-A678-4E10A489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742-3B07-4670-AB6E-A91D21C0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57D9A-4183-4A67-8EC1-50D2E87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F6542-3E12-4B59-A6F0-CC2A7E6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90EA4-B2B1-4830-9AB7-42A5CCFD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8B349-8FE9-4959-B254-538CD2C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EF4A3-CD8A-4E5E-BD0F-B0DAF77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796B8-2476-4CA3-AD5B-BCF5CCB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8DA2A-AD1F-49F6-8F8B-B74BC3A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BC0F7-5818-451A-95A2-B697DCF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916C7-EAF9-4527-9C41-71895309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AF957-2D6C-49E7-A48E-9562D398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3F87-0933-4E5B-B458-E84D21A9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D026B-EB11-4BBA-94E7-3148769E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BB2CF-914D-4385-AEA3-C50182E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A746C-7D7E-4543-A2F2-53DAEF8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BCF9B-84B5-4377-9BCD-785576F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DAA3C-0F5D-433A-88DF-BAD959C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7FB98-001E-4176-A702-069BCCC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3B643-69C6-4E03-A3A5-C9934551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842880-A22F-43B2-A282-FE1EA5D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7D342-F333-4DFC-B439-F25DBA8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197C4-D77C-4150-A382-5EF9EB7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5E3F-0E3C-4414-B26C-9ACCA22E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74D34-F366-4DB9-9A13-CCA5BBF3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4A5CA-9C43-4A47-BD25-6E9AA55F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5F8B4-4FCC-4E2C-9C25-F34C4F46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823C4-6061-4309-9138-044E0AD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1B5CC-FFFC-42EE-B2B5-0375176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1F374-6ED9-4A0C-B4B0-C856DB49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4C1E5-C2E2-4AF4-9218-30C7412D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C7EED8-D6A7-4D14-87F2-4FED1481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EA43AE-FC11-43C7-BCF1-D6D4949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297528-18AB-4D15-924B-5B8D696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5361-44CB-4AAA-8567-ACD24E04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A5ABC-A366-4BB6-81AA-DD182DF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98C09C-EA1D-407A-A553-56AC1EEB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4F270-98A5-44B5-B3DF-FCACB1F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F8C88-0BD3-400C-97A3-58C8844F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FDDF6-9F80-4409-A1A6-20979D64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CEBF7-6ADC-43D1-9BF9-978CE1A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FDB3B-DEDE-4B73-BA0F-7922B7A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443C1-57C2-432E-9905-6E7B10A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88789-1CE7-48A5-92E6-4E9C7DF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B3A70-7AFF-4582-8584-1B92574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7280-7EEE-4892-B49B-EB0CCC95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BFD1A-1C66-4CEB-AC05-347DAFB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2E71AD-234F-46A9-9FF8-A24A6AE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4E8ACC-AF16-4A24-8B6B-8C3DE81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F080A-1A68-407E-B592-CC39424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79298-F013-4FDD-AFB7-F822320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5EB12-1371-4323-832A-1345619B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7092B-5833-4ABA-BD13-F1625931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FBC0-15B9-451F-8A30-AF18910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4273-7037-4A2C-9E1C-D62BF9B5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34B-E2EA-4660-9B63-B174DB1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A8B1-EDC0-4C96-853B-9A73505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7E7F-F74F-4103-AF6D-2750CB0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1BE8-82CE-484A-B20D-4C72AB0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8FDB-B5DF-47CF-9343-7AC464E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E6DC-86BF-4146-9349-ED9DACEA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7AF6-C166-44D2-BFAF-DB8768BF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5A66-FC7C-4C4B-9C0F-E384C4D3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1076-1ECB-4E5D-9469-CC0ECFB0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0018-92BC-4979-B34B-2EEDA15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02CB-A277-4BA8-B5D1-C186A18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791-98E0-45A6-AC8C-9D823371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1617-AF6C-4361-9AD8-407B2B2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D75A-CA7F-4FA7-A17D-8CBC063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6AEC-EB62-4CA6-BF59-4D4752C5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5192-3837-4D28-A5ED-DF89C0DF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641E-567B-4926-95D3-5DEB7CB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5B23-4B3C-46B6-A03F-01351ECA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AADD-7FB1-4D59-B478-1D29B9E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4DFD-6ACE-4E5D-9A94-9213602F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D873-A821-4995-91EA-304384DF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698F-5CFD-4853-BA5C-FC8175C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CEF-0C14-4462-B54A-510D332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BDCA-70AD-4F51-9AE5-4075C202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DAA6-AA0B-42FE-9199-C2C04AE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21A6-615F-4885-A252-9770C92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176F-2FF3-46E9-AFB8-0F5CAADE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5C0D-8C50-4979-B78F-4EE2E18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A361E-7456-450F-BD9C-60DFED7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E7BB-F659-43CE-BE03-766A955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9B48-53A3-4C61-9447-E016BCC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AED0-19BE-4158-862E-8FDBFBF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B637-0194-4322-8479-2604910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2E4-E759-48E8-A78F-7DA3C8C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6FAA-1267-492F-88FF-B08D2DD1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59F8-BFA6-4A01-9D2E-7CEB3F0D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FBFE6-1A58-48A6-9979-8D21C55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2FDBE-9285-425C-BFA2-29EDC64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F9D4-3F4A-4E68-B5D1-29EC34F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F4AF-DF9F-4983-9C37-F78A1A2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7F3F1-F6CB-446D-80AA-985EBC1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12E5-205F-41CF-B4BE-0845C88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7F0C-B8AC-4915-9044-89085D4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A75A-54D2-4005-AAFF-124BD8A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280-262D-485A-874A-EB41589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F070-E4BF-4506-8B00-C5E0F14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F8B7-70A8-4757-A927-A97CE6C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DB55-8B03-441D-B71A-6E92EF2E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60F9-072D-4B94-BED8-C711A3C8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111C-0B61-444B-B8DE-21D172DF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3C2C-DA74-4AE6-9DF5-0D6B75D1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B995-3017-442B-BA3C-C422D1F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CB642-A6ED-43B9-8088-EAD0727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0EE0-3F39-4736-AC3B-A441BB2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57D64-28B7-4168-843C-BA757F5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3B9-5784-4225-AE2E-E262FB5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2DCE-0B65-4508-8561-4A224F6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192B-9A11-4558-9EF1-3DBDDD17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A914-5B76-4114-8FB7-ACEB869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0069-FF02-4BA8-B90D-3D194094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707CA-280E-4FE6-9792-F0CA2BEE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5311-6FA3-495E-86B8-BC56509E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70908-C38C-442E-BA51-EAC6C82A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45921-64C1-4722-903F-B4350C8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FA343-B6BE-42F9-A275-C082E748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13FC-63A9-450B-8689-00AFFEF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B34-D4CC-4F1A-9703-A660C0A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77A3-5875-447C-BB00-9434774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3129A-CB3B-4DAA-91C7-8A5FC7B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39AE1-57B1-4EEE-878B-46B8EDA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38CE-9942-4957-856A-CE01690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C8DDD-E1BE-4307-BF7F-E2AD7CC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84DA-9D33-4814-AC89-C79D03C1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AD89C-B931-45C1-8591-98029D09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D3540-7CF5-4908-ACAC-DF3733ED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C7819-CAF9-447F-9994-FAA50C0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58DBB-68AB-4591-AA56-070A4BE4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53A8-3CE8-4219-9AF5-AF5012467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65AA-A9CC-4539-9898-61B39C3EE2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2C7-4A2C-41A8-87DA-10F315FDD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A34-A8CB-48D4-9A8B-BAC0F7370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D1AB-BBA9-44CC-BE88-13C2DFCFC9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529-5A75-4AA6-B34A-55583C173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16A-D31B-46F5-9051-C65AE161D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C7E7-B8C8-4384-9F98-6AF5AF3CB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02B-CBC1-44FA-8886-17D8FA2C1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A99-2D11-4E57-A2EA-49974EE1C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FB4-BADB-43BB-BB11-D1ADEE3EC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751-ACF3-4740-8653-84189B348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5DFF-DCF9-46FC-9AA5-D987F5F6E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8D18-E27B-41A2-BF49-F22099A59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2947-BA58-4A28-BFBD-DBA77B629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9E89-8AA1-41A8-A704-2B68B4A3B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BDE-D95D-4F95-B67E-406663DF8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4226-1ED8-491A-948E-544F6B3E6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7C8-3916-4781-8816-5FF6403B1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3B8-4B83-4C1C-B684-A76D16DFA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D35-9596-41BA-B823-70B5D1E12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DE80-A5AE-49DF-8007-6E756349AA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61A6-F3EA-4EE9-A625-6A3466111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817-6403-4AC7-97AF-400B6C590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9AF-C7E4-4F98-B035-EFFBEE3CD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466-3B29-47E6-951D-12794A405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31E-4063-4D51-AFA9-B971F186F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F8F-6151-44E8-AFC6-32F84232D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0FA-E81C-489B-9B90-ADDEB50D8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13B-B1C4-4376-AF62-D56613560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C94-77B8-4939-A07D-84FF5ED4C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E1E4-8605-434A-A0F3-D9668D4BD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A048-2032-4B9F-8679-AB1C054AE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06A9-90F9-464E-958C-E640A250D5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DA2-3FB0-401C-9560-3FBFF814C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637-C34F-4D73-9160-327FF83BF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6181-0A4B-4042-9390-808E0F163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791-34E3-4DD7-B276-C536F2F3ED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04E-9131-4878-A2D3-C5FB64D77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61C-E550-453E-97A3-91BCD6A9E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C3E2-BF25-4D70-AA5D-968E40B0B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F3D6-D4C2-455B-BC4F-5FEFC89FD4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43040" y="3067200"/>
            <a:ext cx="76579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57040" y="1500120"/>
            <a:ext cx="8629920" cy="3857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104760" y="2076480"/>
            <a:ext cx="8934480" cy="27050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395280" y="20988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90360" y="2085840"/>
            <a:ext cx="8961480" cy="2686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971640" y="247320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1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771640" y="32320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979640" y="36352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1619280" y="402732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1908000" y="4403880"/>
            <a:ext cx="180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04760" y="2095560"/>
            <a:ext cx="8934480" cy="2666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2050920" y="246852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2411280" y="32130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3059280" y="4005360"/>
            <a:ext cx="64908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2627280" y="4384800"/>
            <a:ext cx="6494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95400" y="947880"/>
            <a:ext cx="8953200" cy="4962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84360" y="172872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2556000" y="1719360"/>
            <a:ext cx="21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1116000" y="250200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143964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4932360" y="3271680"/>
            <a:ext cx="302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2527200" y="40338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8"/>
          <a:stretch/>
        </p:blipFill>
        <p:spPr>
          <a:xfrm>
            <a:off x="4572000" y="40338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9"/>
          <a:stretch/>
        </p:blipFill>
        <p:spPr>
          <a:xfrm>
            <a:off x="1187280" y="4816440"/>
            <a:ext cx="201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7:4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